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632085"/>
        <c:axId val="2993716"/>
      </c:barChart>
      <c:catAx>
        <c:axId val="266320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3716"/>
        <c:crosses val="autoZero"/>
        <c:auto val="1"/>
        <c:lblAlgn val="ctr"/>
        <c:lblOffset val="100"/>
        <c:noMultiLvlLbl val="0"/>
      </c:catAx>
      <c:valAx>
        <c:axId val="29937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6320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C36B-2FE1-4445-9749-3C2606925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48B7-7132-4192-AB50-CE57C394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ACEA-EE9D-47B2-AD3B-1FD92EF32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FBF8-3948-4C0C-92F7-9929D30E6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5896-9089-49F5-9CC2-B6C16E63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3B8C-72A0-4A21-B3E1-3B26FF91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CC63-C6CD-4A88-9FB4-7E8575E5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5447-5351-4A78-B553-628F9DED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575F-FD82-4E02-9A34-002FFB83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58E0-FAA4-47AF-A036-6A1CEF88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49EE-589D-4DA4-900F-42FE1F76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99E0-B42D-40D6-95F4-84E3D1C6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4B58D-CEEC-411F-8B6C-D925E08C3D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