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896768"/>
        <c:axId val="40524038"/>
      </c:barChart>
      <c:catAx>
        <c:axId val="388967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524038"/>
        <c:crosses val="autoZero"/>
        <c:auto val="1"/>
        <c:lblAlgn val="ctr"/>
        <c:lblOffset val="100"/>
        <c:noMultiLvlLbl val="0"/>
      </c:catAx>
      <c:valAx>
        <c:axId val="405240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967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066E-FFF2-45B9-A141-7F9C1678B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A1B7-94E0-4CB0-8B92-75B68CB3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B178-017A-442E-ABAE-779080AF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FE3F-6814-4183-BB83-77F2FCB5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BCF6-7EFE-4DC0-AAEF-934AB3BD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5D26-213E-4132-95B9-4E57D696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20E5-BFC1-46B4-8B56-5A30FDFC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3315-486F-4EA1-83D5-1050A7C1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B19A-9738-42C9-9C31-361A52E1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8B72-E49D-4D42-8828-5ADB16B6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959E-2A66-4865-9524-0624B56B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3BC6-ADDD-48D0-8C03-E596EC92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E0BDC-13FC-4420-893B-889016C68F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