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80653"/>
        <c:axId val="29822289"/>
      </c:barChart>
      <c:catAx>
        <c:axId val="42380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22289"/>
        <c:crosses val="autoZero"/>
        <c:auto val="1"/>
        <c:lblAlgn val="ctr"/>
        <c:lblOffset val="100"/>
        <c:noMultiLvlLbl val="0"/>
      </c:catAx>
      <c:valAx>
        <c:axId val="29822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80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5F0-1A1C-410D-B2AD-6C8EAFD8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CB7-374D-41B1-9C99-AAD745DE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19E-23D2-40D3-B7DB-3B17F068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51CA-31FB-4360-B03C-DB0D0DDC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9F5-94D8-4D67-998A-BAF526D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680-AFD5-46CE-BF0A-F290F33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D65-A844-4E3D-BA33-3532D2E9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9D8-322B-416D-AA1B-5F3E8DC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5D9-5B8E-4B76-85B5-E87A2538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99E-A1B4-4939-9CD8-96FD467D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05C-5C2E-4579-9641-30AFE27D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8A6-F57B-405A-A23E-8C968FE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D07A1-B4E8-450A-9BF7-B314F29482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