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35183"/>
        <c:axId val="73967180"/>
      </c:barChart>
      <c:catAx>
        <c:axId val="59935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67180"/>
        <c:crosses val="autoZero"/>
        <c:auto val="1"/>
        <c:lblAlgn val="ctr"/>
        <c:lblOffset val="100"/>
        <c:noMultiLvlLbl val="0"/>
      </c:catAx>
      <c:valAx>
        <c:axId val="73967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35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7D4-E100-432A-92BE-FB6E2FCD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A5E-5845-4A0F-B876-6E9FE404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326-48A9-4F54-902A-93EE98BC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B69-C7FD-4402-88D7-7E82109E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136-A346-4ACC-B35C-5479B2B5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307-EB10-442B-87CA-21F9F6DA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D74-C340-40A7-B8B4-EA81477F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B55-CB32-4DDC-9DC8-7A75C265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6A9-1262-4C15-8384-621922C5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3F2-6A92-43C8-9757-75B86F2C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6B4-8E98-4120-BCE7-75AFAA7D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ED8-26EC-4923-B37D-D13A7B3B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B0A59-CEC4-4240-8877-0492F9E685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