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002333"/>
        <c:axId val="35573747"/>
      </c:barChart>
      <c:catAx>
        <c:axId val="430023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573747"/>
        <c:crosses val="autoZero"/>
        <c:auto val="1"/>
        <c:lblAlgn val="ctr"/>
        <c:lblOffset val="100"/>
        <c:noMultiLvlLbl val="0"/>
      </c:catAx>
      <c:valAx>
        <c:axId val="355737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023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29D-9568-4E38-A639-D825A2D1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8AEE-5FBA-4F1A-BD19-F1989D9F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7F0-8303-4D39-916F-C81F3C2F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8E7-130E-4C24-B80E-AC072847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F328-3814-407D-9610-717FD634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77DC-F531-423D-9FB9-E01CFF3A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94F-4D5E-4C3E-B51F-79D7DBB4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9A4C-BC4B-4D5C-922E-7EA3D22C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2C40-35BC-48F7-8FDB-07ED46A7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E75-719B-4137-8AA3-6A69C92C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2B6-7C50-42E2-9793-EE060704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229-FDFA-4C5E-8FC7-01F947AC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EEE0F-81BF-413C-8FB5-3701633F24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