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45692"/>
        <c:axId val="3050243"/>
      </c:barChart>
      <c:catAx>
        <c:axId val="81345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0243"/>
        <c:crosses val="autoZero"/>
        <c:auto val="1"/>
        <c:lblAlgn val="ctr"/>
        <c:lblOffset val="100"/>
        <c:noMultiLvlLbl val="0"/>
      </c:catAx>
      <c:valAx>
        <c:axId val="3050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45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3D4-1B70-42E6-A387-89640CE1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E0F-5A56-4C24-8B07-FA13E2B1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60E-57A8-48D1-9BC4-DBE5C012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B1E-C025-4E03-9A09-C99D472D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BB6-E52F-48D4-ACC7-A387755E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CFD-7C4F-4D2E-ACB4-41DF23EB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608-39D6-4367-99DB-71914716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423-9C6B-436A-BD43-671B8C48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EEC-2F49-425F-A837-CF32C32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647-FEAA-4324-BA82-1D62502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10A-E7CE-4ED5-B627-C42D8C4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104-1F87-416F-8782-6F2074E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DDC0F-F86A-4514-8355-5195D5CD66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