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36610"/>
        <c:axId val="87526167"/>
      </c:barChart>
      <c:catAx>
        <c:axId val="48636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6167"/>
        <c:crosses val="autoZero"/>
        <c:auto val="1"/>
        <c:lblAlgn val="ctr"/>
        <c:lblOffset val="100"/>
        <c:noMultiLvlLbl val="0"/>
      </c:catAx>
      <c:valAx>
        <c:axId val="87526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6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FD7-0281-4D9A-AA79-2B787229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075-C458-42E9-9D0D-0B8BA97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740-5371-42A5-8A62-8A9357AF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BB2-F6A2-4364-8B4E-C452F451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7AC-3940-4719-92AE-DF5ECB1F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CAD-3074-4235-8C0B-6F971EC3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514-68B6-497C-BB4C-47F7758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3F8-BC68-4E4E-BAC7-E897EC3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D6D-936D-4EF6-959E-CAE32A11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200-B6D1-4449-93F2-2BAE9E9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9F9-6596-41AE-A8B0-AA43BFA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453-DA54-4834-A911-382EE6C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BD55-2E7C-491A-B3E1-9A7FAA2E19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