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11653"/>
        <c:axId val="25685151"/>
      </c:barChart>
      <c:catAx>
        <c:axId val="86511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85151"/>
        <c:crosses val="autoZero"/>
        <c:auto val="1"/>
        <c:lblAlgn val="ctr"/>
        <c:lblOffset val="100"/>
        <c:noMultiLvlLbl val="0"/>
      </c:catAx>
      <c:valAx>
        <c:axId val="25685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11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72E-130C-4D9E-9A39-C817763F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E53-AC03-4098-B6A2-C7B5027D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DC5-4516-4C40-A4E7-31659E21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FDD-CF32-4B2C-87AE-82EE12D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FF1-07D6-4D4C-8EEA-CEE64B91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7A3-719E-4538-B523-FA9FBFC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FDF-E5BD-44AD-A150-38E72B53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869-92D8-4FCF-B382-6C35C73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2C9-D35E-4054-ADA4-181AB8A5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E52-DB4A-4532-B7CA-8E6D4F5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DAB-765A-443A-9B72-4953A20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36D-1B97-42C5-A9B2-D3EAC0C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2E02F-4411-46AA-89B7-E31292B5B1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