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06466"/>
        <c:axId val="93453458"/>
      </c:barChart>
      <c:catAx>
        <c:axId val="55706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53458"/>
        <c:crosses val="autoZero"/>
        <c:auto val="1"/>
        <c:lblAlgn val="ctr"/>
        <c:lblOffset val="100"/>
        <c:noMultiLvlLbl val="0"/>
      </c:catAx>
      <c:valAx>
        <c:axId val="93453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6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EF0-7A7C-465F-A95F-AC8CB8F5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65F-1307-40FD-8C7B-3C08FE60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81B-CFCA-4496-8C69-94F0B47B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353-A6AB-4928-B361-4DAF04DA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017-9A90-4071-8F89-07B72B4B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306-2FE3-4929-8309-8FA1B683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BCD-E302-40BD-92D2-8D483CA3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30E-53BE-487A-BEEE-B45AAA22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33C-4BDC-42AA-B0C1-124E13C1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C86-E91F-4115-8402-BFCF7B66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E35-863B-40BF-BA1D-7EF888D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94F-397B-4DED-B5F8-818D318C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9F6A8-BFDB-4725-ACDC-5230709B9C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