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35885"/>
        <c:axId val="22794577"/>
      </c:barChart>
      <c:catAx>
        <c:axId val="84835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94577"/>
        <c:crosses val="autoZero"/>
        <c:auto val="1"/>
        <c:lblAlgn val="ctr"/>
        <c:lblOffset val="100"/>
        <c:noMultiLvlLbl val="0"/>
      </c:catAx>
      <c:valAx>
        <c:axId val="22794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35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69B-4431-4C95-AD22-38BA1550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3E3-E491-48D9-92EE-8B951DAC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BBC-57C3-4173-9CA3-68A33D8E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940-47D5-455A-AF15-964E372D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157-E7A6-40D9-B55B-A32199A6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C81-288A-4C01-9E04-2D51830B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7C7-91AC-41FD-BF0C-139FD41A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9EA-97F8-48D4-9AFF-BB27982F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FB0-1AE6-4E53-98F8-98EF8FC6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2689-2D44-41F5-AC71-67CAD3E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E91-3A1A-4413-9C0E-7E02AC96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85F-74BF-4886-AF68-2DA099E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69B51-02F7-45FF-8E3A-E13E976860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