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11692"/>
        <c:axId val="13281346"/>
      </c:barChart>
      <c:catAx>
        <c:axId val="83211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81346"/>
        <c:crosses val="autoZero"/>
        <c:auto val="1"/>
        <c:lblAlgn val="ctr"/>
        <c:lblOffset val="100"/>
        <c:noMultiLvlLbl val="0"/>
      </c:catAx>
      <c:valAx>
        <c:axId val="132813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11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73E4-3995-476E-9D07-1FB66F8C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47B-F5BE-4ABA-81E5-4C10F03D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9204-06C2-4F6F-8645-88A320C1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9088-CD47-406D-A222-96954859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4B6-B38C-4E73-B0EF-7F6B263A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0E78-A1F5-4C6F-8866-38D331A0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6B2A-63B4-47E9-BFB8-22D9D327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B957-E5E5-440A-9EE5-0723C77A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DEB3-9093-483E-91E6-DFFB73DA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3D0-1FCF-4C31-9E89-D397F9F6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29BB-F45F-4352-9FEF-6E2CE0FB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357-CAE9-44DE-B10B-7F272432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7DA17-4066-446F-ADE5-D650570B0E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