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0695"/>
        <c:axId val="31303260"/>
      </c:barChart>
      <c:catAx>
        <c:axId val="7380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03260"/>
        <c:crosses val="autoZero"/>
        <c:auto val="1"/>
        <c:lblAlgn val="ctr"/>
        <c:lblOffset val="100"/>
        <c:noMultiLvlLbl val="0"/>
      </c:catAx>
      <c:valAx>
        <c:axId val="31303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0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4830-0959-444B-9263-19ECF238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D0D-393A-4F71-B777-1A730966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F39-8E81-441C-9170-E3DA2BC8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60B-FF44-42FB-B4B1-6415C1B5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D25-0158-4FA1-9806-C8E67A9E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469-E969-425D-ABD4-1ABDA36E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98E-2A17-4B12-9952-65C16049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071-74E3-4A2D-A607-C183107E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CCF-4C4D-43B1-B980-D52C5E19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446-7545-43E1-A6C0-B0FAE837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A86-F1F3-4668-9876-16A82959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696-52C6-4837-AC7B-56EA405C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3C4F5-A45D-410A-A8A0-5D7E31938B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