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56733"/>
        <c:axId val="79540649"/>
      </c:barChart>
      <c:catAx>
        <c:axId val="16956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0649"/>
        <c:crosses val="autoZero"/>
        <c:auto val="1"/>
        <c:lblAlgn val="ctr"/>
        <c:lblOffset val="100"/>
        <c:noMultiLvlLbl val="0"/>
      </c:catAx>
      <c:valAx>
        <c:axId val="7954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6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2CB-83A6-4177-9977-837DD306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DAC-988D-45F5-8093-086178E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BA0-9919-4684-AD46-F50AE492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771-805C-4755-9B8C-281159F2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C96-E6EF-432D-B818-CBF8734A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942-AC27-4280-8EFF-2D75788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0D9-8764-45CC-A876-B2936BF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A3B-EBE3-4EDE-8F2F-4356362C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89A-18BD-448A-9984-8E09033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925-11BF-4F8C-9553-3C82C2A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4EF-0884-4F00-B66B-021BE90A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C1A-6A18-4F6E-82EF-69FC361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901BC-E079-4C58-A864-41F209B95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