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99903"/>
        <c:axId val="74592795"/>
      </c:barChart>
      <c:catAx>
        <c:axId val="40499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92795"/>
        <c:crosses val="autoZero"/>
        <c:auto val="1"/>
        <c:lblAlgn val="ctr"/>
        <c:lblOffset val="100"/>
        <c:noMultiLvlLbl val="0"/>
      </c:catAx>
      <c:valAx>
        <c:axId val="74592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99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FED-66C4-4AE9-B961-F8703CE23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541-D207-4F05-9B8A-9D32AF4E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353-CAB2-4C91-BF7B-E4FFC5B0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3DB-1E3C-43AA-B3EF-13F8698D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5BC-9E97-4398-AF62-81755318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9D9-59F5-49FD-BFB9-A7F05303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913-BB47-4FEC-B4D6-148A2767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145-B0EF-4075-B527-5AA5FC1B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8B9-8332-4BBD-B2F8-A6BFF5DD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A7B-D55D-4F3F-921F-657191AB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6E4C-827E-463E-B5B1-E5BED111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17B-E432-4A16-A49E-FDDC80C7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D8956-FAD6-4C66-9DFD-80EF3D26E1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