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39065"/>
        <c:axId val="847751"/>
      </c:barChart>
      <c:catAx>
        <c:axId val="75539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751"/>
        <c:crosses val="autoZero"/>
        <c:auto val="1"/>
        <c:lblAlgn val="ctr"/>
        <c:lblOffset val="100"/>
        <c:noMultiLvlLbl val="0"/>
      </c:catAx>
      <c:valAx>
        <c:axId val="847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39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6C2-B9C2-4A87-B3DD-6D7A7222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091-8495-4D18-836F-A7F8ADC9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781-2CC5-4F19-986A-1A0CDD62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76B-E2B8-4CBE-BBEB-876597B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F20-3E21-4A50-B2B5-71796295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42A-215C-42D8-B347-E9B4AB45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240-DC21-4BA4-8C9B-FBCF25CF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A7F-1553-4D74-A459-E96F6381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A8A-53DC-4A35-B0B6-45C881B5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2A3-DBD9-4F00-8DC3-14E870C2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B78-6AFC-4B64-B45F-DD19CED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A3B-6F54-4176-B43B-E81C68F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B95C2-67B9-4112-AE52-1E584EFC8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