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75572"/>
        <c:axId val="85144222"/>
      </c:barChart>
      <c:catAx>
        <c:axId val="39475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4222"/>
        <c:crosses val="autoZero"/>
        <c:auto val="1"/>
        <c:lblAlgn val="ctr"/>
        <c:lblOffset val="100"/>
        <c:noMultiLvlLbl val="0"/>
      </c:catAx>
      <c:valAx>
        <c:axId val="85144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5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EBE-DC3A-4947-9FAC-55131229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4FB-A91C-42A9-943B-F63FC76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878-2C7F-43EF-948D-35AD2B1B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978-4094-41AE-934A-5F9D3410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C35-88C4-4AD7-A46B-FBD1155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84A-0814-48D4-8EE5-EA12EB5F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6A6-6FE0-49AB-B390-92DF51E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938-8EEA-4EFE-B0C7-FEC84C8D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7D0-E058-4B4F-9D86-A5BE266D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956-3809-4BD5-9969-9930EF3A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38D-2068-4238-8E34-D86AC3B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16-15AD-444C-ACB2-0F550DF3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61439-7B52-4E9C-9F52-C2DE3484EE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