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1756"/>
        <c:axId val="77690807"/>
      </c:barChart>
      <c:catAx>
        <c:axId val="19701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90807"/>
        <c:crosses val="autoZero"/>
        <c:auto val="1"/>
        <c:lblAlgn val="ctr"/>
        <c:lblOffset val="100"/>
        <c:noMultiLvlLbl val="0"/>
      </c:catAx>
      <c:valAx>
        <c:axId val="77690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1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720-F16D-418F-B819-AD5FB7B5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C9A-F9D1-422D-BEC2-7453F8C4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5F4-0530-4D31-874A-86DC1327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026-B697-46D1-BA55-AC5C48A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45B-3A08-4054-82E3-F8BF7FD0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EAA-46A2-42E8-8D4D-A0E2945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93A-E17D-4AC3-9066-E63D2F5B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5BA-633E-48C2-95C0-C1138804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ABF-AE38-45AE-A44C-0BBDBCB7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95E-A0B4-4B8A-912B-64060A1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F28-C097-4BAD-A874-B2625F6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618-6882-40FA-84E0-B8B9FA0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6FFF-B99D-4C74-8695-CD5517A292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