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830687"/>
        <c:axId val="47248693"/>
      </c:barChart>
      <c:catAx>
        <c:axId val="108306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48693"/>
        <c:crosses val="autoZero"/>
        <c:auto val="1"/>
        <c:lblAlgn val="ctr"/>
        <c:lblOffset val="100"/>
        <c:noMultiLvlLbl val="0"/>
      </c:catAx>
      <c:valAx>
        <c:axId val="472486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8306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40FE-09ED-4F90-8A98-C56D08D3F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52A5-087C-47B9-890E-354EFEAF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F885-66EB-4AA9-AFF2-16F750853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80E6-BAD1-4826-8A9C-43816957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5DE0-884D-403B-99FD-5E56C7C8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AEF9-FA1E-46EC-BBE3-B609A21F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D707-E698-4EA4-98E0-8EACB814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18E7-4172-40EB-B3FF-4BA86425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D9F7-D75F-40D9-A0BF-08CE1564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7F83-B39C-410B-8A89-9B5B1B82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8F33-E188-4E98-AEC9-96592D83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3604-C8B0-4F2E-B7E3-991C99FC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E876E-0361-47E7-938A-8F6031E704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