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84674"/>
        <c:axId val="99472899"/>
      </c:barChart>
      <c:catAx>
        <c:axId val="11884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72899"/>
        <c:crosses val="autoZero"/>
        <c:auto val="1"/>
        <c:lblAlgn val="ctr"/>
        <c:lblOffset val="100"/>
        <c:noMultiLvlLbl val="0"/>
      </c:catAx>
      <c:valAx>
        <c:axId val="99472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4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9B2-7341-45D9-B80C-9DA3F9D2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AC7-073E-4568-ABF0-97F3EF04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27B-4A60-4530-ACA8-DE44B6FA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98B-3BEB-48BD-BDD3-99EC7BE7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750-87D4-48F3-9961-51F15C6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27D-03B3-4F4A-A075-4031733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23C2-AC3F-426A-9976-CB3BDEE5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E6A-41B0-444B-B53D-D7E84037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964-D54D-429D-B72A-D49EA40E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CD4-5D57-481E-A5EA-726EF37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1AB-7A05-47FD-BF41-D6A544E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AC3-0C14-4A88-85A7-B289608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562D9-6B9B-409B-80B8-7E1113F2E3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