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469034"/>
        <c:axId val="3382570"/>
      </c:barChart>
      <c:catAx>
        <c:axId val="394690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82570"/>
        <c:crosses val="autoZero"/>
        <c:auto val="1"/>
        <c:lblAlgn val="ctr"/>
        <c:lblOffset val="100"/>
        <c:noMultiLvlLbl val="0"/>
      </c:catAx>
      <c:valAx>
        <c:axId val="33825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4690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B1A3-E074-47C3-8093-A9089E463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6E4D-94C0-4378-8B14-846C39EE7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C9DB-E532-45E4-85A4-8C611AB8B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4FE9-04B5-48C0-9FE0-F3658BA87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F3D2-535F-4B7E-8019-B3331457F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84F8-CC6F-4E9E-8396-C3AECD7F3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37AD-02B9-4DF2-9E45-C2C709A9E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9481-04A8-4CA9-9911-043111194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1778-0A18-48AB-AF50-89BA97BA8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CAC9-7949-4217-962C-D89CAA48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FE15-DF37-4E8A-AE48-E6BEF03A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BB6E-4240-44F3-BBDF-12B231EE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82ECB7-2556-45D8-9487-D7DF68841EC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