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069975"/>
        <c:axId val="93681864"/>
      </c:barChart>
      <c:catAx>
        <c:axId val="380699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81864"/>
        <c:crosses val="autoZero"/>
        <c:auto val="1"/>
        <c:lblAlgn val="ctr"/>
        <c:lblOffset val="100"/>
        <c:noMultiLvlLbl val="0"/>
      </c:catAx>
      <c:valAx>
        <c:axId val="936818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699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F001-FC2D-4146-8D13-F72E944E1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B989-6373-4E4C-9D18-BDB88DAF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1F75-27B5-43FF-A8CB-D00AAE5A1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E009-0385-4FD6-BFF6-596BC869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0EB1-AED5-4AC8-BEB7-169EDD1A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2109-49DD-4543-A6D5-6FDE15D9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C39C-06B6-4335-8CA8-A83970EC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B442-9843-470E-BEE3-6544DB58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A1E8-1CB7-49A7-973F-1AB66902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0B10-8B7B-4565-A5AA-170F08B7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EBB8-0D81-42B3-875D-A291F5C3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8508-F3F9-4DBC-97CD-3E8B6926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8ABD10-6A0B-4497-A4E9-C1D050D0EC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